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828-231C-4104-A59A-67204A70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F80-FD15-486A-A3C4-29A5F3A0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AE7-C7B1-42AA-BAA9-51138E78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46A-1EEE-4818-9527-47CCC36C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401-3034-47D3-9AD1-7AA369BD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82C-1F00-4986-BF29-6ED073AF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FDA-FF00-4197-AFAE-7D0BFA7F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578-2692-427B-9617-169DB3BE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B79-4EDF-4BA3-999C-6F69BDAA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AF0-7F6A-4191-977B-32F7F4B7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90B-A12E-4241-B554-F64BA729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738-5DE7-4874-AAB7-C2121C4E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FD75-0C0C-44AD-A516-DD9B4B697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MULTIPLI MIJEL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8" descr="Grb MF"/>
          <p:cNvPicPr/>
          <p:nvPr/>
        </p:nvPicPr>
        <p:blipFill>
          <a:blip r:embed="rId1"/>
          <a:stretch/>
        </p:blipFill>
        <p:spPr>
          <a:xfrm>
            <a:off x="8001000" y="3808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цијенткиња Б.Ј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62 год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мљена у хитну интернистичку амбуланту због осећаја болова у грудима, лупања срца, повраћања, мучнине, опште слабости и малаксалости, отежаног дисања са искашљавањем беличастог садрж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вод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ледњих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сец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губил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10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ивши је пуш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ичној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амнез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вод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еч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попаратиреоидизм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бил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пу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еуматолог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мњ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теопороз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гира постојање болести од хередитарног значаја,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ер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ИЗИКАЛНИ НА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леда, адинамична, свесна, слабо комуникативна, отежано покретна. ТТ 50кг, ТВ 160цм, ТА 110/60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 плућима дифузно ослабљен дисајни ш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 срцу радња ритмична, убрзана, тонови јас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МС без от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КГ синусна тахикардија, фр 125/мин, QTснижен 280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мах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ађене хитне лабораторијске анал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Hg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80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,7x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x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sr-R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N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71%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y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2%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       E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0,4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0,6%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M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6%)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T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88x10</a:t>
            </a:r>
            <a:r>
              <a:rPr b="0" lang="sr-R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MC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8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бриноген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6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70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електролитном статусу доминира хиперкалцем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Ca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6,1ммо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ати у референтном опсегу 1,3ммол/л,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ALP 150U/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(↑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рдиоспецифични ензими показују нешто благо повећане вредности тропонина 0,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RTG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лућ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ифузне остеолитичке промене са знацима фрактуре стернума. На плућима наглашена бронховаскуларна шара уз знаке консолидације базално лево. У средњем и доњем плућном пољу  лево уз латерални торакални зид, промене које могу одговарату секундарним депозит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ХО абдоме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жучној кеси мултипли калкулуси промера 10мм,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убрезима микролитијаза, без дилатације ПК система. Остали налаз уред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нзилијарни преглед хематолог, ендокринолог и кардиолог доносе одлуку да се болесница прими у Интензивну интернистичку негу ради даље дијагностике и мултидисциплинарног лечења, као и праћења виталних функциј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кључена терапиј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- диурет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ета блокат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оли фосф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ликокортикои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ађен ехо вра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ез изражене лимфаденопатије, у латералном левом режњу штитасте жлезде хиперехогена формација промера 6 мм без јасног ограниче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ункција костне сржи: цитолошким налазом аспирата верификовано је 50% плазмоцита који су патолошки измењ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2514600" y="4191120"/>
            <a:ext cx="4648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пунске лабораторијске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ализе укључујући електофорезу и имуноелектрофорезу протеина серума и урин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е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9ммо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 , креатини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101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мо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куп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теи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83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глобулини 43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g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3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ce Jones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теини у урину позитив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PTH 67pq/m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ree Kappa Light Chaine 1700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6019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тавље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дијагноз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Myeloma multiple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линички стадијум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II Salmon Du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ечење преузима хематол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CTD ( Ciklofosfamid, Talidomid, Dexametaso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з ендокринолошку терапију и праћ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ja</dc:creator>
  <dc:description/>
  <dc:language>en-US</dc:language>
  <cp:lastModifiedBy>Zeljko</cp:lastModifiedBy>
  <dcterms:modified xsi:type="dcterms:W3CDTF">2021-09-07T00:11:04Z</dcterms:modified>
  <cp:revision>11</cp:revision>
  <dc:subject/>
  <dc:title>MULTIPLI MIJELOM</dc:title>
</cp:coreProperties>
</file>