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AA79-1D60-466B-B465-113DA4873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A6EB-2F2A-4AF0-A675-2D88FCE96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C528-31E1-4230-B5B0-70383B349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D70C-3D22-47A0-A9C6-297A7B6FF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9C84-9CDB-4DBF-8553-43441C2BA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9627-A215-4D40-9799-DC3E87E14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1992-F64D-4FA2-B9BB-DC3E95917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4E57-61D8-43EA-B72E-AE7083DA3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16B7-2E89-4444-9120-979CBC406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2188-9CF3-435E-88D3-CA59A98CE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F7D2-A5F0-44EE-A8CD-91F223F95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9C67-4FE7-45CB-8F1D-4F25D9232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5E766-C99C-4D27-8C60-5F54DD9431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ffffff"/>
                </a:solidFill>
                <a:latin typeface="Calibri"/>
              </a:rPr>
              <a:t>ХОЧКИНОВ</a:t>
            </a:r>
            <a:r>
              <a:rPr b="0" lang="sr-Latn-RS" sz="4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sr-RS" sz="4400" spc="-1" strike="noStrike">
                <a:solidFill>
                  <a:srgbClr val="ffffff"/>
                </a:solidFill>
                <a:latin typeface="Calibri"/>
              </a:rPr>
              <a:t>ЛИМФОМ</a:t>
            </a:r>
            <a:br>
              <a:rPr sz="4400"/>
            </a:br>
            <a:r>
              <a:rPr b="0" lang="sr-RS" sz="2800" spc="-1" strike="noStrike">
                <a:solidFill>
                  <a:srgbClr val="ffffff"/>
                </a:solidFill>
                <a:latin typeface="Calibri"/>
              </a:rPr>
              <a:t>приказ случај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898989"/>
                </a:solidFill>
                <a:latin typeface="Calibri"/>
              </a:rPr>
              <a:t>Асс др Јелена Вучковић Филипови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8" descr="Grb MF"/>
          <p:cNvPicPr/>
          <p:nvPr/>
        </p:nvPicPr>
        <p:blipFill>
          <a:blip r:embed="rId1"/>
          <a:stretch/>
        </p:blipFill>
        <p:spPr>
          <a:xfrm>
            <a:off x="8001000" y="304920"/>
            <a:ext cx="762120" cy="12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ffffff"/>
                </a:solidFill>
                <a:latin typeface="Calibri"/>
              </a:rPr>
              <a:t>ПРИКАЗ</a:t>
            </a:r>
            <a:r>
              <a:rPr b="0" lang="sr-Latn-RS" sz="4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sr-RS" sz="4400" spc="-1" strike="noStrike">
                <a:solidFill>
                  <a:srgbClr val="ffffff"/>
                </a:solidFill>
                <a:latin typeface="Calibri"/>
              </a:rPr>
              <a:t>СЛУЧА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Пацијент старости 19 год П.П упућен од стране изабраног лекара хематологу, због увећаних лимфних жлезда вра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Од тегоба наводи малаксалост, повремено гушењ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Негира постојање хроничних  болести, алергија, као и болести од хередитарног знача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Физикалним прегледом верификоване лимфне жлезде лево супраклавикуларно у пакет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8" descr="Grb MF"/>
          <p:cNvPicPr/>
          <p:nvPr/>
        </p:nvPicPr>
        <p:blipFill>
          <a:blip r:embed="rId1"/>
          <a:stretch/>
        </p:blipFill>
        <p:spPr>
          <a:xfrm>
            <a:off x="8001000" y="152280"/>
            <a:ext cx="762120" cy="12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ffffff"/>
                </a:solidFill>
                <a:latin typeface="Calibri"/>
              </a:rPr>
              <a:t>ПРИКАЗ</a:t>
            </a:r>
            <a:r>
              <a:rPr b="0" lang="sr-Latn-RS" sz="4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sr-RS" sz="4400" spc="-1" strike="noStrike">
                <a:solidFill>
                  <a:srgbClr val="ffffff"/>
                </a:solidFill>
                <a:latin typeface="Calibri"/>
              </a:rPr>
              <a:t>СЛУЧА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На плућима нормалан дисајни шум. На срцу радња ритмична, тонови јасни. ЛМС без ото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ЕКГ синусни ритам, фр 80/мин, без промена ST сегмента и Т таласа. ТА 110/60 mmH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Абдомен, мек испод равни грудног коша, јетра се палпира испод ДРЛ за око 1цм. Слезина се не палпира. Екстремитети без едем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8" descr="Grb MF"/>
          <p:cNvPicPr/>
          <p:nvPr/>
        </p:nvPicPr>
        <p:blipFill>
          <a:blip r:embed="rId1"/>
          <a:stretch/>
        </p:blipFill>
        <p:spPr>
          <a:xfrm>
            <a:off x="7924680" y="228600"/>
            <a:ext cx="762120" cy="12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ffffff"/>
                </a:solidFill>
                <a:latin typeface="Calibri"/>
              </a:rPr>
              <a:t>ПРИКАЗ</a:t>
            </a:r>
            <a:r>
              <a:rPr b="0" lang="sr-Latn-RS" sz="4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sr-RS" sz="4400" spc="-1" strike="noStrike">
                <a:solidFill>
                  <a:srgbClr val="ffffff"/>
                </a:solidFill>
                <a:latin typeface="Calibri"/>
              </a:rPr>
              <a:t>СЛУЧА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Урађене лабораторијске анализе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Le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 6,6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x1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0" lang="sr-RS" sz="2400" spc="-1" strike="noStrike" baseline="30000">
                <a:solidFill>
                  <a:srgbClr val="000000"/>
                </a:solidFill>
                <a:latin typeface="Calibri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 ( 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Ne 85%, Ly 7%, Mo 6%, Eo 0,4, Ba 0,6%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Er 5,5x1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0" lang="sr-Latn-RS" sz="2400" spc="-1" strike="noStrike" baseline="30000">
                <a:solidFill>
                  <a:srgbClr val="000000"/>
                </a:solidFill>
                <a:latin typeface="Calibri"/>
              </a:rPr>
              <a:t>12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/l, HgB 140g/l, HCT 47,2  Tr 414x1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0" lang="sr-RS" sz="2400" spc="-1" strike="noStrike" baseline="30000">
                <a:solidFill>
                  <a:srgbClr val="000000"/>
                </a:solidFill>
                <a:latin typeface="Calibri"/>
              </a:rPr>
              <a:t>9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/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fibrinogen 7,0g/l, LDH 243U/L, SE 5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хо врата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Лево супраклавикуларно хипоехогена васкуларизована солидна формација величине 7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34мм која одговара лимфним нодусим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8" descr="Grb MF"/>
          <p:cNvPicPr/>
          <p:nvPr/>
        </p:nvPicPr>
        <p:blipFill>
          <a:blip r:embed="rId1"/>
          <a:stretch/>
        </p:blipFill>
        <p:spPr>
          <a:xfrm>
            <a:off x="8001000" y="152280"/>
            <a:ext cx="762120" cy="12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ffffff"/>
                </a:solidFill>
                <a:latin typeface="Calibri"/>
              </a:rPr>
              <a:t>ПРИКАЗ</a:t>
            </a:r>
            <a:r>
              <a:rPr b="0" lang="sr-Latn-RS" sz="4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sr-RS" sz="4400" spc="-1" strike="noStrike">
                <a:solidFill>
                  <a:srgbClr val="ffffff"/>
                </a:solidFill>
                <a:latin typeface="Calibri"/>
              </a:rPr>
              <a:t>СЛУЧА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282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РТГ плућ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Медијастинална лимфаденопатија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ulky болес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1"/>
          <a:stretch/>
        </p:blipFill>
        <p:spPr>
          <a:xfrm>
            <a:off x="4114800" y="2514600"/>
            <a:ext cx="4743360" cy="40482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Grb MF"/>
          <p:cNvPicPr/>
          <p:nvPr/>
        </p:nvPicPr>
        <p:blipFill>
          <a:blip r:embed="rId2"/>
          <a:stretch/>
        </p:blipFill>
        <p:spPr>
          <a:xfrm>
            <a:off x="8001000" y="152280"/>
            <a:ext cx="762120" cy="12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ffffff"/>
                </a:solidFill>
                <a:latin typeface="Calibri"/>
              </a:rPr>
              <a:t>ПРИКАЗ</a:t>
            </a:r>
            <a:r>
              <a:rPr b="0" lang="sr-Latn-RS" sz="4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sr-RS" sz="4400" spc="-1" strike="noStrike">
                <a:solidFill>
                  <a:srgbClr val="ffffff"/>
                </a:solidFill>
                <a:latin typeface="Calibri"/>
              </a:rPr>
              <a:t>СЛУЧА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282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Ехокардиографски преглед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Задебљање зидова десне коморе.Уочен  перикардни излив циркуларно до 10мм. Паракардијално уочена маса,јасно ограничена, мекоткивна, величине 40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60м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Постављена сумња на лимфопролиферативну болест, спроведена допунска дијагности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8" descr="Grb MF"/>
          <p:cNvPicPr/>
          <p:nvPr/>
        </p:nvPicPr>
        <p:blipFill>
          <a:blip r:embed="rId1"/>
          <a:stretch/>
        </p:blipFill>
        <p:spPr>
          <a:xfrm>
            <a:off x="8001000" y="152280"/>
            <a:ext cx="762120" cy="12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ffffff"/>
                </a:solidFill>
                <a:latin typeface="Calibri"/>
              </a:rPr>
              <a:t>ПРИКАЗ</a:t>
            </a:r>
            <a:r>
              <a:rPr b="0" lang="sr-Latn-RS" sz="4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sr-RS" sz="4400" spc="-1" strike="noStrike">
                <a:solidFill>
                  <a:srgbClr val="ffffff"/>
                </a:solidFill>
                <a:latin typeface="Calibri"/>
              </a:rPr>
              <a:t>СЛУЧА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282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0360" indent="-90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90360" indent="-90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Урађена биопсија лимфне жлезде врата која указује на Ходгкинову болест по типу нодуларне склерозе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90360" indent="-90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стадијум 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CS II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90360" indent="-90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90360" indent="-90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hockinov limfom.jpg"/>
          <p:cNvPicPr/>
          <p:nvPr/>
        </p:nvPicPr>
        <p:blipFill>
          <a:blip r:embed="rId1"/>
          <a:stretch/>
        </p:blipFill>
        <p:spPr>
          <a:xfrm>
            <a:off x="4495680" y="3124080"/>
            <a:ext cx="4089600" cy="33530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8" descr="Grb MF"/>
          <p:cNvPicPr/>
          <p:nvPr/>
        </p:nvPicPr>
        <p:blipFill>
          <a:blip r:embed="rId2"/>
          <a:stretch/>
        </p:blipFill>
        <p:spPr>
          <a:xfrm>
            <a:off x="8001000" y="152280"/>
            <a:ext cx="762120" cy="12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ffffff"/>
                </a:solidFill>
                <a:latin typeface="Calibri"/>
              </a:rPr>
              <a:t>ПРИКАЗ</a:t>
            </a:r>
            <a:r>
              <a:rPr b="0" lang="sr-Latn-RS" sz="4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sr-RS" sz="4400" spc="-1" strike="noStrike">
                <a:solidFill>
                  <a:srgbClr val="ffffff"/>
                </a:solidFill>
                <a:latin typeface="Calibri"/>
              </a:rPr>
              <a:t>СЛУЧА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2282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0360" indent="-90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90360" indent="-90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Терапиј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90360" indent="-90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ABVD (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Адријабластин, Блеомицин, Винбласин, Декарбазин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90360" indent="-90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3 циклуса а након тога зрачење медијастинума, након тога још 3 циклуса А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BVD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90360" indent="-90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90360" indent="-90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90360" indent="-90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Пацијент је за сада у ремисији боле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90360" indent="-90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90360" indent="-90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90360" indent="-90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8" descr="Grb MF"/>
          <p:cNvPicPr/>
          <p:nvPr/>
        </p:nvPicPr>
        <p:blipFill>
          <a:blip r:embed="rId1"/>
          <a:stretch/>
        </p:blipFill>
        <p:spPr>
          <a:xfrm>
            <a:off x="8001000" y="152280"/>
            <a:ext cx="762120" cy="12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Maja</dc:creator>
  <dc:description/>
  <dc:language>en-US</dc:language>
  <cp:lastModifiedBy>Zeljko</cp:lastModifiedBy>
  <dcterms:modified xsi:type="dcterms:W3CDTF">2021-09-07T00:10:36Z</dcterms:modified>
  <cp:revision>9</cp:revision>
  <dc:subject/>
  <dc:title>ХОЧКИНОВ ЛИМФОМ</dc:title>
</cp:coreProperties>
</file>