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500040" y="1428840"/>
            <a:ext cx="8001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мет: Интерна медици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ставна јединица: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Хроничне лимфопролиферативне бол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авач:  </a:t>
            </a:r>
            <a:r>
              <a:rPr b="1" i="1" lang="sr-CS" sz="2400" spc="-1" strike="noStrike" u="sng">
                <a:solidFill>
                  <a:srgbClr val="6600ff"/>
                </a:solidFill>
                <a:uFillTx/>
                <a:latin typeface="Arial"/>
              </a:rPr>
              <a:t>Проф др Предраг Ђу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атогенеза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НХ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ивација протоoнко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активација тумор супресорских г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5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Класификација лимф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op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mphoma clasification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класиф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ц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a 2000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i 200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инцип класиф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БИН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ш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унохистохемијс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нич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етских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одела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НХ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курсорске или лимфобластне неопла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плазме зрелих (периферних)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екурсорске неоплазме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ип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урсорска Б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мфобласт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укемија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-лимфобласт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ф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урсорска 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мфобласт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еукемија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-лимфобласт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мф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лимфобластна леукемија и лимфобластни лимфом су иста болест са различитом клиничком презент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лимфом - мање од 20%</a:t>
            </a:r>
            <a:r>
              <a:rPr b="0" lang="sl-SI" sz="2400" spc="-1" strike="noStrike">
                <a:solidFill>
                  <a:srgbClr val="333399"/>
                </a:solidFill>
                <a:latin typeface="Arial"/>
              </a:rPr>
              <a:t> лимфобласта у коштаној ср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Зрели (периферни) Б лимфоми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тип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хронична лимфоцитна леукемија /</a:t>
            </a: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 лимфом малих лимф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мантле ћелијски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фоликуларни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лимфом Б ћелија маргиналне з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екстранодални лимфом маргиналне зоне МАЛТ ти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нодални лимфом маргиналне з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66ff"/>
                </a:solidFill>
                <a:latin typeface="Arial"/>
              </a:rPr>
              <a:t>спленични лимфом маргиналне з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08080"/>
                </a:solidFill>
                <a:latin typeface="Arial"/>
              </a:rPr>
              <a:t>лимфоплазмоцитни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08080"/>
                </a:solidFill>
                <a:latin typeface="Arial"/>
              </a:rPr>
              <a:t>леукемија власастих ћел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66ff33"/>
                </a:solidFill>
                <a:latin typeface="Arial"/>
              </a:rPr>
              <a:t>дифузни лимфом крупних Б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Буркиттов лимфом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sl-SI" sz="1800" spc="-1" strike="noStrike">
                <a:solidFill>
                  <a:srgbClr val="333399"/>
                </a:solidFill>
                <a:latin typeface="Arial"/>
              </a:rPr>
              <a:t>леук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Arial"/>
              </a:rPr>
              <a:t>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импто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зистентно или прогредирајуће, углавном безболно увећање лимфних чв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леномегалија и понекад хепатомега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транодални тум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мећаји хематопо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ституционални симптоми (субфебрилност, губитак у ТT, ноћно презнојав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пецифични 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826920" y="2492280"/>
            <a:ext cx="785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Imago"/>
              </a:rPr>
              <a:t>Обзиром да лимфоцити круже по целом     организму, лимфом може да се појави 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Imago"/>
              </a:rPr>
              <a:t>једном лимфном чвору, групи лимфних чворова или у неком другом орг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Imago"/>
              </a:rPr>
              <a:t>Може такође да захвати и јетру, костну срж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желудац, око, јајник, плуђа, кост и 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ктранодалне манифест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0000"/>
                </a:solidFill>
                <a:latin typeface="Arial"/>
              </a:rPr>
              <a:t>Дијагностика НХ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4520" y="1260000"/>
            <a:ext cx="75913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остављање дијагнозе лимф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497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намнеза и физикалн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Рендгенски сним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Ултразвучн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Биоп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омпјутеризована томографија (ЦТ тј. скен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агнетна резон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имф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Хематолошки малигнит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000" y="2144880"/>
            <a:ext cx="8202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99ff"/>
                </a:solidFill>
                <a:latin typeface="Arial"/>
              </a:rPr>
              <a:t>(А) Мијелопролиферативне болести</a:t>
            </a:r>
            <a:r>
              <a:rPr b="1" lang="sr-CS" sz="2400" spc="-1" strike="noStrike">
                <a:solidFill>
                  <a:srgbClr val="3399ff"/>
                </a:solidFill>
                <a:latin typeface="Arial"/>
              </a:rPr>
              <a:t> (најчешћ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МЛ, ХМЛ, ПРВ, ЕТ, М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99ff"/>
                </a:solidFill>
                <a:latin typeface="Arial"/>
              </a:rPr>
              <a:t>(Б) Лимфопролиферативне болести</a:t>
            </a:r>
            <a:r>
              <a:rPr b="1" lang="sr-CS" sz="2400" spc="-1" strike="noStrike">
                <a:solidFill>
                  <a:srgbClr val="3399ff"/>
                </a:solidFill>
                <a:latin typeface="Arial"/>
              </a:rPr>
              <a:t> (најчешћ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утна лимфобластна леу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рон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лимфоцитна леукемија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Лимфоми (Хочкинов и Нехочкински лимф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мунопролиферативн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7201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Да би се поставила кона</a:t>
            </a:r>
            <a:r>
              <a:rPr b="0" lang="sr-CS" sz="30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на дијагноза, неопходна 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2680" y="2287080"/>
            <a:ext cx="80535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6600"/>
                </a:solidFill>
                <a:latin typeface="Arial"/>
              </a:rPr>
              <a:t>Биопсиј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хирург узима узорак ткива како би га патолог испитао под микроскопом и проверио да ли постоје малиг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опсија се обично узима из лимфног чвора, али може и из осталих тк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некад може лапаротомија: операција током које хирург узима узорак ткива углавном лимфних чворова из трбуха који ће бити испитани под микроскоп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8112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хирушка биопсија увећаног нодуса или патолошког тумефакта са довољно материјала за допунске анал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иницијално урадити биопсију + аспирацију костне ср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лумбална пункција је део процедуре комбинована са првом профилактичком терапијом у високо агресивних лим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Одређивање клиничког стадијума болести </a:t>
            </a:r>
            <a:r>
              <a:rPr b="1" i="1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(sta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2565360"/>
            <a:ext cx="8458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 </a:t>
            </a:r>
            <a:r>
              <a:rPr b="0" lang="sl-SI" sz="1600" spc="-1" strike="noStrike">
                <a:solidFill>
                  <a:srgbClr val="33ccff"/>
                </a:solidFill>
                <a:latin typeface="Arial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само једног лимфног чвoра и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мфоидне стр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тур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(слезина, тимус,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Waldeyer-о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прсте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оnзил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I</a:t>
            </a:r>
            <a:r>
              <a:rPr b="1" lang="sl-SI" sz="1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два и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ше рeгиона лимф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х чворo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а сa 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те с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ране дијафрaг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(медијаст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нум се рачунa као једно место; хилар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лимф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чворo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и су латерaлизов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II</a:t>
            </a:r>
            <a:r>
              <a:rPr b="1" lang="sl-SI" sz="1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лимфн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х чворo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а ил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струк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ур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а сa обе стране дијафрaг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ccff"/>
                </a:solidFill>
                <a:latin typeface="Arial"/>
              </a:rPr>
              <a:t>IV</a:t>
            </a:r>
            <a:r>
              <a:rPr b="1" lang="sl-SI" sz="1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Захвaтaње eкстранодaлnих lокализaцiј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3399ff"/>
                </a:solidFill>
                <a:latin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- без симптоmа    </a:t>
            </a:r>
            <a:r>
              <a:rPr b="1" lang="sl-SI" sz="2000" spc="-1" strike="noStrike">
                <a:solidFill>
                  <a:srgbClr val="3399ff"/>
                </a:solidFill>
                <a:latin typeface="Arial"/>
              </a:rPr>
              <a:t>Б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- субфеbрилност, профузнo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ојењe и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губитак у телeсној теж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Одлучивање о тeрапиј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1" lang="sl-SI" sz="2800" spc="-1" strike="noStrike">
                <a:solidFill>
                  <a:srgbClr val="ff0000"/>
                </a:solidFill>
                <a:latin typeface="Arial"/>
              </a:rPr>
              <a:t>Чиме сe руковoдим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14400" y="1828800"/>
            <a:ext cx="8077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1.Шта је циљ терапије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излечење, продужење преживљавања, терапијски одгов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квалитет живот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2. Старосна доб болесника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хронолошка или физиоло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3. Прогнозни фактори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ИПИ, ФЛИПИ, ЛДХ, бета2 микроглобули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цитогенетске проме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Клиничке особине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волуминозност, степен инфилтрације сржи и периферне крви, 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посебне” локације или ризик  трансформациј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5.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800" spc="-1" strike="noStrike">
                <a:solidFill>
                  <a:srgbClr val="990000"/>
                </a:solidFill>
                <a:latin typeface="Arial"/>
              </a:rPr>
              <a:t>Одлука боле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УВЕК НА УМУ:</a:t>
            </a:r>
            <a:r>
              <a:rPr b="1" lang="sr-Latn-CS" sz="2400" spc="-1" strike="noStrike" u="sng">
                <a:solidFill>
                  <a:srgbClr val="00ff00"/>
                </a:solidFill>
                <a:uFillTx/>
                <a:latin typeface="Arial"/>
              </a:rPr>
              <a:t> однос корист/последице 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187280" y="1700280"/>
            <a:ext cx="8077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Ко спроводи лечење оболелог са малигном болешћ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терапијски приступ увек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мултидисциплинаран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63640" y="3716280"/>
            <a:ext cx="554508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 u="sng">
                <a:solidFill>
                  <a:srgbClr val="00ff00"/>
                </a:solidFill>
                <a:uFillTx/>
                <a:latin typeface="Arial"/>
              </a:rPr>
              <a:t>Тим професионала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лекар општ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хематолог/онк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радиотерапе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фармак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физија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психија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медицинска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- социјални ра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Терапиј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Терапијски модалите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watch аnd wаit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радиотерапија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хемиотерапија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хирушка терапија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биолошка терапија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- комбинациј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+ лечење компл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104920"/>
            <a:ext cx="8077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3280" y="1828800"/>
            <a:ext cx="86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Т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лека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иотерапеут, физичар, дозиметриста, мед.технич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843280" y="393372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Рад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971640" y="3068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ff00"/>
                </a:solidFill>
                <a:latin typeface="Arial"/>
              </a:rPr>
              <a:t>курати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780000" y="3068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ff00"/>
                </a:solidFill>
                <a:latin typeface="Arial"/>
              </a:rPr>
              <a:t>хи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867280" y="3068640"/>
            <a:ext cx="21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ff00"/>
                </a:solidFill>
                <a:latin typeface="Arial"/>
              </a:rPr>
              <a:t>палијати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84360" y="479736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Gama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рац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(ko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ал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796000" y="4807080"/>
            <a:ext cx="251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р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11280" y="5734080"/>
            <a:ext cx="8062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ена: ФРАКЦИОНИСАНА, 5x недељно, 5-8 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5724360" y="3499920"/>
            <a:ext cx="71928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4284720" y="3500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 flipV="1">
            <a:off x="2123640" y="3499920"/>
            <a:ext cx="107964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 flipH="1">
            <a:off x="2843280" y="4437000"/>
            <a:ext cx="93672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5003640" y="4437000"/>
            <a:ext cx="107964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ем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сновни прицип - комбинована х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терап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сваки од лекова делује на одређену фа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механизам дејства сваког лека је различ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нема укрштене резистенције међу леко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сваки лек има различиту ограничавајућу доз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окси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Хеми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28708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лкилирајући лек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Циклофосфамид, Ифосфамид, хлорамбуцил, дакарбазин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нтимикротубулни 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Vinca алкалоид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Топоизомераза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доксорубицин, даунорубицин, идарубицин, митоксантрон, етопозид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Антиметабол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метотрексат, цитозар, флударабин, гемцитабин, хлородеоксиаденозин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латински анал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(цисплатин, карбоплатин и 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с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Хроничне лимфопролифератив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 су сва </a:t>
            </a:r>
            <a:r>
              <a:rPr b="0" lang="sr-CS" sz="2400" spc="-1" strike="noStrike">
                <a:solidFill>
                  <a:srgbClr val="333399"/>
                </a:solidFill>
                <a:latin typeface="Arial"/>
              </a:rPr>
              <a:t>бенигна и малиг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бољења лимфног система хроничног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игне хроничне лимфопролиферативне болести су веома хетерогена група клонских пролиферација </a:t>
            </a:r>
            <a:r>
              <a:rPr b="0" lang="sr-CS" sz="2400" spc="-1" strike="noStrike">
                <a:solidFill>
                  <a:srgbClr val="333399"/>
                </a:solidFill>
                <a:latin typeface="Arial"/>
              </a:rPr>
              <a:t>углавном Б лимфоци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које чине 90% свих хроничних лимфопролиферативних болести, док су неопластичне пролиферације Т лимфоцита, плазмоцита  и НК ћелија веома рет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Биолошк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Моноклонска анти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ритуксимаб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мтузумаб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Имуномодул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нтерфер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Ћелијска терап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алогена и аутологна трансплантација МЋ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инфузија донорских лимфоцит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Arial"/>
              </a:rPr>
              <a:t>Фактори раста и циток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Епо, G-CSF, GM-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 u="sng">
                <a:solidFill>
                  <a:srgbClr val="ff0000"/>
                </a:solidFill>
                <a:uFillTx/>
                <a:latin typeface="Arial"/>
              </a:rPr>
              <a:t>Компликације терапије НХ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јелосупрес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омат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учнина, повраћањ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опе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лергијск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индром лизе тум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 u="sng">
                <a:solidFill>
                  <a:srgbClr val="ff0000"/>
                </a:solidFill>
                <a:uFillTx/>
                <a:latin typeface="Arial"/>
              </a:rPr>
              <a:t>Супортативна терапија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контрола 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алијативно збрињ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ентерална и парентерална исх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психосоматска потп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необично значајан и интегрални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део савременог лечења НХ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Ход</a:t>
            </a:r>
            <a:r>
              <a:rPr b="0" lang="sr-CS" sz="48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инов лимфом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Ход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инов лимфом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игни тумор кога карактеришу малиг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Рид-Ш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запаљењски, нетуморски, ћелијски инфилтрат у поза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вих лимф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шће болују мушкар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 пика учесталости – 28. и 60.година (САД и ЕУ), у Јапану нема првог пика, 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ромашним земљ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ругог п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удан утицај социјалног и економског нивоа на учесталост оболевања: код економски виших слојева друштва чешће оболевају млађи одрасли него деца и прогностички су бољи подтипови, док у економски лошијим слојевима чешће оболевају деца и то прогностички лошији подтип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мњи да је претх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инфекција ЕБВ (инфективна мононуклеоза) претходник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ли то није и доказ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 постоји специфична цитогенетска промена карактеристична за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шћи код особа 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ују од аутоимуних болести или су имунодефициј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мфаденопатија –центрипетална и аксиј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 симптомат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м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илтрација нелимфатичних 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ашаљ, бол у грудима, гушење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 V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инфилтрација плућа, перикар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костобоља (инфилтрација коштаног тки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главобоља и поремећаји в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инфилтрација ЦН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адутост, болови у стомаку, асцит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имфаденопатија –центрипетална и аксија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имфни нодуси су увећани, безболни, ме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-5% болесника осећа бо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 ЛН после конзумирања алкох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јчешће на врату, супраклавикуларним јамама и медијастину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екада ЛН спонтано нестану, па се јаве на другом ме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опсија и ПХ вериф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опходно присуство 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нберг-ових ћел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 је велика ћелија са билобарним или мултилобарним је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уморска ћелија 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ли неког друг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ћелијског порек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а је изгубила скоро све морфолошке карактеристике ћелије од које је пот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познато порек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 мутиране, реаранжиране Ig 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спримира нове г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971640" y="2349360"/>
            <a:ext cx="754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Imago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Данaс sе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зa преко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35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врст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ХЛ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!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Imago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Imago"/>
              </a:rPr>
              <a:t>НХЛ ч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ин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4/5 свих лимфо</a:t>
            </a:r>
            <a:r>
              <a:rPr b="0" lang="sr-CS" sz="2000" spc="-1" strike="noStrike">
                <a:solidFill>
                  <a:srgbClr val="000000"/>
                </a:solidFill>
                <a:latin typeface="Imago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Данaс у свету има преко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1,000,000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људи са лимфоmoм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Сваке године сe  дијагностикује окo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 360,000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нов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случајева лимфо</a:t>
            </a:r>
            <a:r>
              <a:rPr b="0" lang="sr-CS" sz="2000" spc="-1" strike="noStrike">
                <a:solidFill>
                  <a:srgbClr val="000000"/>
                </a:solidFill>
                <a:latin typeface="Imago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284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l-SI" sz="2000" spc="-1" strike="noStrike">
                <a:solidFill>
                  <a:srgbClr val="ff6600"/>
                </a:solidFill>
                <a:latin typeface="Imago"/>
              </a:rPr>
              <a:t>200,000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људи умире годишње од лимфо</a:t>
            </a:r>
            <a:r>
              <a:rPr b="0" lang="sr-CS" sz="2000" spc="-1" strike="noStrike">
                <a:solidFill>
                  <a:srgbClr val="000000"/>
                </a:solidFill>
                <a:latin typeface="Imago"/>
              </a:rPr>
              <a:t>м</a:t>
            </a: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а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Imag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ријанте Рид-Штернбергових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д-Штернбергова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онуклеарна (Хочкинова)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унарна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мификована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&amp;Х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лимфоцитна и хистиоцитна), poпcоrn ћ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рнбергова ћел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унофенотипски показује спектар маркера који се не нелази ни на једној ћел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25 i 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CD3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 и Т лимфоци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CD13, 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CD1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CD74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нулоци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CD2, CD3, CD4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CD6, CD5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 лимфоци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CD45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ндри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CD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Rye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ласификацијa ХЛ 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(196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23270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 хистолoшка ти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мфоцит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оминаци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 (ЛП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нодуларна склероза (НС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в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целуlарн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М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лимфоцитна 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плец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ЛД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новиja клaсифиkaциja лимфома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Revised European American Classification of Lymf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уводи и 5. подтип – </a:t>
            </a:r>
            <a:r>
              <a:rPr b="0" lang="sr-CS" sz="2800" spc="-1" strike="noStrike">
                <a:solidFill>
                  <a:srgbClr val="333399"/>
                </a:solidFill>
                <a:latin typeface="Arial"/>
              </a:rPr>
              <a:t>лимфоцитима бoгaтa kлaсичнa Х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лимфоцит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 предомин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одуларни тип раста, параграну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&amp;Х, poпcоrn, неопластичн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ема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их </a:t>
            </a:r>
            <a:r>
              <a:rPr b="0" lang="sl-SI" sz="3200" spc="-1" strike="noStrike">
                <a:solidFill>
                  <a:srgbClr val="80808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озад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мали ли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пителоидн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ема еозинофила и плазм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нодуларна склер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раке везивног 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акунарне и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озад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и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хисти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гранул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лазм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меш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овит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целулар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класичне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д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озад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лимф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хисти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озиноф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плазмоци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еплеција лимфо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бројне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често бизарне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нек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еплеција лимф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Лимфоцитима богата класична Ход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кинова бо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ифузни облик 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класичне Р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0" lang="sr-CS" sz="3200" spc="-1" strike="noStrike">
                <a:solidFill>
                  <a:srgbClr val="808080"/>
                </a:solidFill>
                <a:latin typeface="Arial"/>
              </a:rPr>
              <a:t>-Ш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тернбергове ћелије уместо Л&amp;Х </a:t>
            </a:r>
            <a:r>
              <a:rPr b="0" lang="sl-SI" sz="3200" spc="-1" strike="noStrike">
                <a:solidFill>
                  <a:srgbClr val="808080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е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62120" y="251460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еминација болести - одређује терапију и про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кални и радиолошки прегл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опсија 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т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р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симптоми: температура, губитак више од 10% тежине, ноћно знојење, свр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8436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дређивање стад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Cotsworlds staging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I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захвaтање јeдног реgиона ЛН 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ф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не ст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Arial"/>
              </a:rPr>
              <a:t>II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захвaтање два и 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ше рeгиона ЛН са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е 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ране дијафрaгме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дијастинум се води као пoсебна лок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зa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ја, a хиларнa лимфаденопатијa се размaтра билатерaл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захвaтање ЛН 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стру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ра сa обе стране дијафрaг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захвaтање јeдног и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више ЕН места (место sе означaвa са 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838080" y="2590920"/>
            <a:ext cx="83059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SzPct val="123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Imago"/>
              </a:rPr>
              <a:t>Индолентни НХЛ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– 70% свих индолентних чини фоликуларни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235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Imago"/>
              </a:rPr>
              <a:t>Агресивни НХЛ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– Дифузни Б крупноћелијски лимфом (ДБК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Imago"/>
              </a:rPr>
              <a:t>Веома агресивни НХЛ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– </a:t>
            </a:r>
            <a:r>
              <a:rPr b="0" lang="sr-Latn-CS" sz="1800" spc="-1" strike="noStrike">
                <a:solidFill>
                  <a:srgbClr val="000000"/>
                </a:solidFill>
                <a:latin typeface="Imago"/>
              </a:rPr>
              <a:t>Burkitt</a:t>
            </a:r>
            <a:r>
              <a:rPr b="0" lang="sr-CS" sz="1800" spc="-1" strike="noStrike">
                <a:solidFill>
                  <a:srgbClr val="000000"/>
                </a:solidFill>
                <a:latin typeface="Imago"/>
              </a:rPr>
              <a:t>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ијагностички поступци за оцену одређивање стадијума - </a:t>
            </a:r>
            <a:r>
              <a:rPr b="0" lang="sr-CS" sz="3600" spc="-1" strike="noStrike">
                <a:solidFill>
                  <a:srgbClr val="333399"/>
                </a:solidFill>
                <a:latin typeface="Arial"/>
              </a:rPr>
              <a:t>ОБАВЕЗ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еглед боле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оказ Б симптомат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ХО врата, пазуха и преп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Т торакса, абдомена и мале кар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иопсија костне ср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Зависи од </a:t>
            </a:r>
            <a:r>
              <a:rPr b="0" lang="sr-CS" sz="3200" spc="-1" strike="noStrike">
                <a:solidFill>
                  <a:srgbClr val="333399"/>
                </a:solidFill>
                <a:latin typeface="Arial"/>
              </a:rPr>
              <a:t>клиничког стадијума</a:t>
            </a:r>
            <a:r>
              <a:rPr b="0" lang="sr-Latn-CS" sz="3200" spc="-1" strike="noStrike">
                <a:solidFill>
                  <a:srgbClr val="333399"/>
                </a:solidFill>
                <a:latin typeface="Arial"/>
              </a:rPr>
              <a:t>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д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м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Трансплантација матичне ћелије хематопо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0000"/>
                </a:solidFill>
                <a:latin typeface="Arial"/>
              </a:rPr>
              <a:t>ХРОНИЧНА ЛИМФОЦИТНА ЛЕУКЕМ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YU L Swiss"/>
              </a:rPr>
              <a:t>Хрони</a:t>
            </a:r>
            <a:r>
              <a:rPr b="1" lang="sr-Latn-CS" sz="32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3200" spc="-1" strike="noStrike">
                <a:solidFill>
                  <a:srgbClr val="ff0000"/>
                </a:solidFill>
                <a:latin typeface="YU L Swiss"/>
              </a:rPr>
              <a:t>на лимфоцитна леукемија (ХЛ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нају</a:t>
            </a:r>
            <a:r>
              <a:rPr b="0" lang="sr-Latn-CS" sz="3200" spc="-1" strike="noStrike">
                <a:solidFill>
                  <a:srgbClr val="000000"/>
                </a:solidFill>
                <a:latin typeface="YU L Swiss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есталија леукемија у западним земљама (</a:t>
            </a:r>
            <a:r>
              <a:rPr b="0" lang="en-GB" sz="3300" spc="-1" strike="noStrike">
                <a:solidFill>
                  <a:srgbClr val="000000"/>
                </a:solidFill>
                <a:latin typeface="Yu Times New Roman"/>
              </a:rPr>
              <a:t>25 % ме</a:t>
            </a:r>
            <a:r>
              <a:rPr b="0" lang="sr-Latn-CS" sz="3300" spc="-1" strike="noStrike">
                <a:solidFill>
                  <a:srgbClr val="000000"/>
                </a:solidFill>
                <a:latin typeface="Yu Times New Roman"/>
              </a:rPr>
              <a:t>ђ</a:t>
            </a:r>
            <a:r>
              <a:rPr b="0" lang="en-GB" sz="3300" spc="-1" strike="noStrike">
                <a:solidFill>
                  <a:srgbClr val="000000"/>
                </a:solidFill>
                <a:latin typeface="Yu Times New Roman"/>
              </a:rPr>
              <a:t>у свим леукемијам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карактерисана је прогресивном акумулацијом морфоло</a:t>
            </a:r>
            <a:r>
              <a:rPr b="0" lang="sr-Latn-CS" sz="32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ки зрелих али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YU L Swiss"/>
              </a:rPr>
              <a:t>ки некомпетентних лимфо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L Swiss"/>
              </a:rPr>
              <a:t>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однос му</a:t>
            </a:r>
            <a:r>
              <a:rPr b="0" lang="sr-Latn-CS" sz="2900" spc="-1" strike="noStrike">
                <a:solidFill>
                  <a:srgbClr val="000000"/>
                </a:solidFill>
                <a:latin typeface="Yu Times New Roman"/>
              </a:rPr>
              <a:t>ш</a:t>
            </a: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ког: </a:t>
            </a:r>
            <a:r>
              <a:rPr b="0" lang="sr-Latn-CS" sz="2900" spc="-1" strike="noStrike">
                <a:solidFill>
                  <a:srgbClr val="000000"/>
                </a:solidFill>
                <a:latin typeface="Yu Times New Roman"/>
              </a:rPr>
              <a:t>ж</a:t>
            </a: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енског пола = 2 : 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узраст: 60- 80 година (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узраст </a:t>
            </a:r>
            <a:r>
              <a:rPr b="0" lang="en-US" sz="2800" spc="-1" strike="noStrike">
                <a:solidFill>
                  <a:srgbClr val="000000"/>
                </a:solidFill>
                <a:latin typeface="Aldine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60 година - 75% болес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Yu Times New Roman"/>
              </a:rPr>
              <a:t>фамилијарна појава болести: код 2 % болесни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медијана ду</a:t>
            </a:r>
            <a:r>
              <a:rPr b="0" lang="sr-Latn-CS" sz="28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ине пре</a:t>
            </a:r>
            <a:r>
              <a:rPr b="0" lang="sr-Latn-CS" sz="28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YU L Swiss"/>
              </a:rPr>
              <a:t>ивљавања: 10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више од 95% болесника ХЛЛ је Б-лимфоцитн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YU L Swiss"/>
              </a:rPr>
              <a:t>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Етиопатогенеза још увек непознат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Није детектована типична цитогенетска абнормалнос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Малигно трансформисани лимфоцити слабије подлежу апоптози што им продужава живот. То је једно од објашњења акумулације лимфоцита у ХЛЛ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 тога, имају нешто већи пролиферативни потенцијал у односу на здраве лимфоц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лини</a:t>
            </a:r>
            <a:r>
              <a:rPr b="0" lang="sr-CS" sz="36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е манифестације 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Иницијалне манифестациј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од 30% болесника болест се открива након рутинског прегледа периферне крвне слик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р болесници немају никакве симп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гу да постоје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имптоми анем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езболно у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ње лимфних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 инфекција дисајних путева или запаљење п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лини</a:t>
            </a:r>
            <a:r>
              <a:rPr b="0" lang="sr-Latn-CS" sz="36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0" lang="en-US" sz="3600" spc="-1" strike="noStrike">
                <a:solidFill>
                  <a:srgbClr val="ff0000"/>
                </a:solidFill>
                <a:latin typeface="YU L Swiss"/>
              </a:rPr>
              <a:t>ке манифестације Х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објективни преглед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имет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о у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ње лимфних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воров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на врату, у пазуху и препо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леномегалија (код 50% болесн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хепатомегалија (ретк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тг грудног 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: хиларна лимфаден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ХО (или ЦТ) абдомена : ретроперитонеална лимфаденопат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YU L Swiss"/>
              </a:rPr>
              <a:t>Лабораторијски налази у Х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преглед периферне крв</a:t>
            </a:r>
            <a:r>
              <a:rPr b="1" i="1" lang="sr-Latn-CS" sz="2400" spc="-1" strike="noStrike" u="sng">
                <a:solidFill>
                  <a:srgbClr val="333399"/>
                </a:solidFill>
                <a:uFillTx/>
                <a:latin typeface="Arial"/>
              </a:rPr>
              <a:t>и</a:t>
            </a: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имфоцитоза : &gt; 5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лонских Б-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mpreht-ове се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лимфоцити: 1-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немија (&lt; 1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&lt;11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ромбоцитопенија (&lt; 100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Yu Times New Roman"/>
              </a:rPr>
              <a:t>биохемијске анализе </a:t>
            </a:r>
            <a:r>
              <a:rPr b="1" i="1" lang="sr-CS" sz="2400" spc="-1" strike="noStrike" u="sng">
                <a:solidFill>
                  <a:srgbClr val="333399"/>
                </a:solidFill>
                <a:uFillTx/>
                <a:latin typeface="Arial"/>
              </a:rPr>
              <a:t>–могу да се региструју</a:t>
            </a:r>
            <a:r>
              <a:rPr b="1" i="1" lang="en-GB" sz="2400" spc="-1" strike="noStrike" u="sng">
                <a:solidFill>
                  <a:srgbClr val="333399"/>
                </a:solidFill>
                <a:uFillTx/>
                <a:latin typeface="Yu 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пови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ени у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хипогамаглобули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YU L Swiss"/>
              </a:rPr>
              <a:t>Преглед костне ср</a:t>
            </a:r>
            <a:r>
              <a:rPr b="1" i="1" lang="sr-Latn-CS" sz="2800" spc="-1" strike="noStrike">
                <a:solidFill>
                  <a:srgbClr val="ff0000"/>
                </a:solidFill>
                <a:latin typeface="YU L Swiss"/>
              </a:rPr>
              <a:t>ж</a:t>
            </a:r>
            <a:r>
              <a:rPr b="1" i="1" lang="en-US" sz="2800" spc="-1" strike="noStrike">
                <a:solidFill>
                  <a:srgbClr val="ff0000"/>
                </a:solidFill>
                <a:latin typeface="YU L Swiss"/>
              </a:rPr>
              <a:t>и у Х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Yu Times New Roman"/>
              </a:rPr>
              <a:t>аспирација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: инфилтрација лимфоцитима &gt;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Yu 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Yu Times New Roman"/>
              </a:rPr>
              <a:t>биопсија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: 4 хистолоска типа инфилтра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1. нодула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2. интерстицијал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3. ме</a:t>
            </a:r>
            <a:r>
              <a:rPr b="0" lang="sr-Latn-CS" sz="2400" spc="-1" strike="noStrike">
                <a:solidFill>
                  <a:srgbClr val="000000"/>
                </a:solidFill>
                <a:latin typeface="Yu Times New Roman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овити нодуларни и интерстицијал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Yu Times New Roman"/>
              </a:rPr>
              <a:t>4. дифу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2327040"/>
            <a:ext cx="858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хо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ски лимфоми (НХЛ) представљају малигне лимфопролиферативне болес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одликују различитим клиничким током и прогно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ине 5% свих малигних боле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д већине болесника НХЛ се дијагностикују у одмаклом живо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добу (преко 65 год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ешће се јављају код особа мушког по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однос 2 : 1 у корист мушкарац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ледњих година бележи се пораст броја оболелих и међу млађим особама што се приписује већ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 бројем особа инфицираних ХИВ вирус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муносупресијом и др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главном се НХЛ јављају спорадично, али је забележена и појава да се у неким породицама јављају чешће (нарочито НХЛ малих лимфоцита – СЛЛ), што наводи на чињеницу да у постоји генетски детерминисана предиспозиција за настанак и развој НХ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Стандардни критеријуми за дијагнозу ХЛ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x10e9/l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 у периферн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ви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 имунофенотипски скор 4 или 5 (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atutes score):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D5+, CD23+, CD22-, fmc7-, SIg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Модификовани Rai-ов staging си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24000" y="1773360"/>
          <a:ext cx="8496000" cy="4829040"/>
        </p:xfrm>
        <a:graphic>
          <a:graphicData uri="http://schemas.openxmlformats.org/drawingml/2006/table">
            <a:tbl>
              <a:tblPr/>
              <a:tblGrid>
                <a:gridCol w="1439640"/>
                <a:gridCol w="1295640"/>
                <a:gridCol w="2952720"/>
                <a:gridCol w="1224000"/>
                <a:gridCol w="1584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Стадиј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Ри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лини</a:t>
                      </a: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ч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е</a:t>
                      </a:r>
                      <a:r>
                        <a:rPr b="0" lang="sr-C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и лабораторијск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анифест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5-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пре</a:t>
                      </a:r>
                      <a:r>
                        <a:rPr b="0" lang="sr-C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живља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пре</a:t>
                      </a:r>
                      <a:r>
                        <a:rPr b="0" lang="sr-CS" sz="20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живљава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м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само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&gt;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средњ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Л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м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аденопат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средњ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хепато/сpлeнoмe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ви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Хб&lt;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&lt;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1,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вис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оцитоз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 + Тр&lt;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1,5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Binet-ов staging си</a:t>
            </a:r>
            <a:r>
              <a:rPr b="1" lang="sr-CS" sz="2800" spc="-1" strike="noStrike">
                <a:solidFill>
                  <a:srgbClr val="ff0000"/>
                </a:solidFill>
                <a:latin typeface="YU L Swiss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тем за ХЛ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989000"/>
          <a:ext cx="8785440" cy="4526280"/>
        </p:xfrm>
        <a:graphic>
          <a:graphicData uri="http://schemas.openxmlformats.org/drawingml/2006/table">
            <a:tbl>
              <a:tblPr/>
              <a:tblGrid>
                <a:gridCol w="1884600"/>
                <a:gridCol w="2251080"/>
                <a:gridCol w="2549520"/>
                <a:gridCol w="21002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диј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лини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ч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анифес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5-годи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ш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пре</a:t>
                      </a:r>
                      <a:r>
                        <a:rPr b="0" lang="sr-Latn-C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ж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ивљ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Медиј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YU L Swiss"/>
                        </a:rPr>
                        <a:t>(године)</a:t>
                      </a:r>
                      <a:r>
                        <a:rPr b="0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преживља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&lt;2 регије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аденопа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ldine"/>
                        </a:rPr>
                        <a:t>≥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3 регије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лимфаденопа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Хб&lt;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Тр&lt;100 x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YU L Swiss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YU L Swiss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оци анемије у Х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уфицијенција нормалне еритропо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фицит гв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или фол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персплен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утоимуна хемолизна а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ЛИНИЧКЕ КОМПЛ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прес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рмалне хематопо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фективне комплик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о 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н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утро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ни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пога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глобулинеми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имфопени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утоимуни поремећаји укључујућ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ауто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ну хемолизну анемиј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у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уну тромбоцитопени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д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теров синдро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–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ундарни малигнитет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&gt;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1619280" y="1700280"/>
            <a:ext cx="6477120" cy="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YU L Swiss"/>
              </a:rPr>
              <a:t>ТЕРАПИЈА ХЛ</a:t>
            </a:r>
            <a:r>
              <a:rPr b="1" i="1" lang="sr-CS" sz="4400" spc="-1" strike="noStrike">
                <a:solidFill>
                  <a:srgbClr val="ff0000"/>
                </a:solidFill>
                <a:latin typeface="YU L Swiss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YU L Swiss"/>
              </a:rPr>
              <a:t>ТЕРАПИЈА ХЛ</a:t>
            </a:r>
            <a:r>
              <a:rPr b="1" i="1" lang="sr-CS" sz="4400" spc="-1" strike="noStrike">
                <a:solidFill>
                  <a:srgbClr val="ff0000"/>
                </a:solidFill>
                <a:latin typeface="YU L Swiss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ома често терапију није неопходно одмах применити по постављању дијагнозе, већ се примењује принцип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atch and w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ктично значи да болесник долази на контролне прегледе (обично на 3 месеца) где се региструје постојање критеријума за започињањ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Фактори од зна</a:t>
            </a:r>
            <a:r>
              <a:rPr b="1" lang="sr-Latn-CS" sz="28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аја за запо</a:t>
            </a:r>
            <a:r>
              <a:rPr b="1" lang="sr-Latn-CS" sz="28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ињање ле</a:t>
            </a:r>
            <a:r>
              <a:rPr b="1" lang="sr-Latn-CS" sz="2800" spc="-1" strike="noStrike">
                <a:solidFill>
                  <a:srgbClr val="ff0000"/>
                </a:solidFill>
                <a:latin typeface="YU L Swiss"/>
              </a:rPr>
              <a:t>ч</a:t>
            </a:r>
            <a:r>
              <a:rPr b="1" lang="en-US" sz="2800" spc="-1" strike="noStrike">
                <a:solidFill>
                  <a:srgbClr val="ff0000"/>
                </a:solidFill>
                <a:latin typeface="YU L Swiss"/>
              </a:rPr>
              <a:t>ења код болесника са Х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Присуство оп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тих симптома: губитак у телесној те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ини, изра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ено лако замарање, пови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ена Т или но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но знојење (без доказа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Погор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ање анемије и тромбоцитопен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Изра</a:t>
            </a:r>
            <a:r>
              <a:rPr b="0" lang="sr-Latn-CS" sz="2400" spc="-1" strike="noStrike">
                <a:solidFill>
                  <a:srgbClr val="000000"/>
                </a:solidFill>
                <a:latin typeface="YU L Swiss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ена или прогресивна лимфаденопа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Масивна или прогресивна спленомега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Аутоимуне цитопеније резистентне на кортикостероид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Брзо пов</a:t>
            </a:r>
            <a:r>
              <a:rPr b="0" lang="sr-Latn-CS" sz="2400" spc="-1" strike="noStrike">
                <a:solidFill>
                  <a:srgbClr val="000000"/>
                </a:solidFill>
                <a:latin typeface="YU L Swiss"/>
              </a:rPr>
              <a:t>ећање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 броја </a:t>
            </a:r>
            <a:r>
              <a:rPr b="0" lang="sr-CS" sz="2400" spc="-1" strike="noStrike">
                <a:solidFill>
                  <a:srgbClr val="000000"/>
                </a:solidFill>
                <a:latin typeface="YU L Swiss"/>
              </a:rPr>
              <a:t>лимфоцита</a:t>
            </a:r>
            <a:r>
              <a:rPr b="0" lang="en-US" sz="2400" spc="-1" strike="noStrike">
                <a:solidFill>
                  <a:srgbClr val="000000"/>
                </a:solidFill>
                <a:latin typeface="YU L Swiss"/>
              </a:rPr>
              <a:t> у периферној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YU L Swiss"/>
              </a:rPr>
              <a:t>Хем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YU L Swiss"/>
              </a:rPr>
              <a:t>Флударабин + Циклофосфамид + Риту</a:t>
            </a:r>
            <a:r>
              <a:rPr b="1" lang="sr-CS" sz="2400" spc="-1" strike="noStrike">
                <a:solidFill>
                  <a:srgbClr val="333399"/>
                </a:solidFill>
                <a:latin typeface="YU L Swiss"/>
              </a:rPr>
              <a:t>кс</a:t>
            </a:r>
            <a:r>
              <a:rPr b="1" lang="en-US" sz="2400" spc="-1" strike="noStrike">
                <a:solidFill>
                  <a:srgbClr val="333399"/>
                </a:solidFill>
                <a:latin typeface="YU L Swiss"/>
              </a:rPr>
              <a:t>им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Флударaбин + Ц</a:t>
            </a:r>
            <a:r>
              <a:rPr b="1" lang="sr-CS" sz="2400" spc="-1" strike="noStrike">
                <a:solidFill>
                  <a:srgbClr val="000000"/>
                </a:solidFill>
                <a:latin typeface="YU L Swiss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к</a:t>
            </a:r>
            <a:r>
              <a:rPr b="1" lang="sr-CS" sz="2400" spc="-1" strike="noStrike">
                <a:solidFill>
                  <a:srgbClr val="000000"/>
                </a:solidFill>
                <a:latin typeface="YU L Swiss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офoс</a:t>
            </a:r>
            <a:r>
              <a:rPr b="1" lang="sr-CS" sz="2400" spc="-1" strike="noStrike">
                <a:solidFill>
                  <a:srgbClr val="000000"/>
                </a:solidFill>
                <a:latin typeface="YU L Swiss"/>
              </a:rPr>
              <a:t>ф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орамбуц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 L Swis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 L Swiss"/>
              </a:rPr>
              <a:t>Флударабин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ртикостер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ШТ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Е ПОС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ТИЖЕ ДАНАШЊОМ  КОНВЕНЦИОНАЛНОМ ТЕРАПИЈОМ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8083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Висока стопа терапијског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одужено трајање терапијског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ШТА КОНВЕНЦИОНАЛНА ТЕРАПИЈА НЕ УСПЕВ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258920" y="5445000"/>
            <a:ext cx="6232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ЖЕТАК ПРЕЖИВЉАВ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 rot="1643400">
            <a:off x="3850920" y="4941720"/>
            <a:ext cx="304920" cy="747720"/>
          </a:xfrm>
          <a:prstGeom prst="downArrow">
            <a:avLst>
              <a:gd name="adj1" fmla="val 50000"/>
              <a:gd name="adj2" fmla="val 61305"/>
            </a:avLst>
          </a:prstGeom>
          <a:solidFill>
            <a:srgbClr val="3366cc"/>
          </a:solidFill>
          <a:ln w="9360">
            <a:solidFill>
              <a:srgbClr val="a01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1523880" y="838080"/>
            <a:ext cx="6477120" cy="0"/>
          </a:xfrm>
          <a:prstGeom prst="line">
            <a:avLst/>
          </a:prstGeom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% нода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% екстранодaл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042920" y="12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5% Б лимф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% Т лимф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42920" y="12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Нехо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sr-Latn-CS" sz="3600" spc="-1" strike="noStrike">
                <a:solidFill>
                  <a:srgbClr val="ff0000"/>
                </a:solidFill>
                <a:latin typeface="Arial"/>
              </a:rPr>
              <a:t>чкински лимфоми (НХ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Етиологија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НХ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ј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унодефициј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утоиму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icob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еr p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ктерије или Giardia у цре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V-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LV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рус Ц хеп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dministrator</cp:lastModifiedBy>
  <dcterms:modified xsi:type="dcterms:W3CDTF">2016-08-30T19:20:09Z</dcterms:modified>
  <cp:revision>20</cp:revision>
  <dc:subject/>
  <dc:title>Slide 1</dc:title>
</cp:coreProperties>
</file>